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E618-9AA6-4BC4-B0A8-97383A6B3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DE99-E144-461A-B486-94DF6193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331C-B1EB-4B27-B2A0-2EE1F18A0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66A6-9409-44D1-A042-162FDF82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F5A7-72A4-4054-B512-C5AB1A578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1E96-3129-426A-A95C-0DD0B6BC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12F0-8C10-45C4-B2F6-009C00FE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BE35-BB2B-45F1-9423-5CBACB76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BCEC-38BC-4DE8-9C60-2FAFD61B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9708-1B48-4239-B26A-04815AC2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DA6E-C84A-422C-B5A3-6501B1E0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A20E-33E7-4169-A340-7BE0D994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0BB9-DA88-4BB0-AFAC-B94E30D1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A173-B37C-44C6-A022-EEF84EA7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653E-D1E9-4450-93F3-E0E5FA3B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FD38-B75A-4D08-B863-B2261FB0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D57A-75FD-4394-9DAD-DE6B3833B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31781-2558-4AC6-AA7D-DD7C9E732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AF414-0804-412D-9C19-47C0DB57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8DCB2-DAD1-497D-867D-A9AA148E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9B4B0-D4FA-465B-BAA5-3FEDB573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23EA7-A17B-403A-9D36-FC2F37A6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B8E6-DFD9-4FB9-86D4-CBDB7BB2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69509-2001-4858-8721-55DB5309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1A075-5391-41EC-A845-89D0263F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F9C6E-52DF-4399-8A81-36C02D57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602BD-95A0-4A19-BE87-D84A927D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5E054-807E-436F-AB52-2B5DB083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E378F-D390-49A5-816B-53CE790B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036D9-BF8D-4E44-9D7A-D6C4006BD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370AC-8A78-45A7-AB3C-93F705F0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E9618-1944-4202-8DA8-6F2E260C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249E8-8F8B-4429-BC8E-1F0F2286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4CC8-D6CC-49EB-ABC4-689750AD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FF8BA-BA42-4C72-AD11-EF3DE864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46A59-7A2E-41FE-8F55-3BB9A520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4A922-4F3A-4183-96C3-E8AF955F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6AED7-78B5-492E-A56F-88300088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65CAC-BFA4-4BCE-ABEA-8B2CB306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35914-87CB-4014-B744-4BA9E907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34227-9E0C-4D6A-AF29-5BFE8ACE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B6F30-88A2-4ECA-BE9B-B228ADE73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2E837-C9C6-4D13-A812-991E791FF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2B896-7BF7-494C-8538-6B0936D25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A9E2-1C05-4A10-AC4D-20AD3BF1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2A71E-07DC-47F4-A235-AE1BD4A3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BE448-8661-4D91-A680-AA8403D3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0CE87-259E-4F25-B8EB-03346817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3EF5F-4839-41C7-B594-42EFB0F2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9C943-2563-4061-BB2E-D5A437D1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694AD-5D30-482A-AEEF-EED0D08E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CF47F-499F-41C7-8A2B-B7BE642A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3F847-D39E-46EA-8302-3FBCCAAB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030A2-A335-4E30-9A1B-2935F1D7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EE7A1-E9D4-45FF-B9C5-CC8A5DDD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EC6D-6B92-4AC2-9DCC-401E7A4A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B0E5F-31F2-4A03-A22B-01748AC2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A73C-317C-4E56-90C7-2872DB44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7A1A-AA08-4D6A-92B3-AA3661D5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4169-29E4-4DE5-9969-E95D0E1B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1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A2E9-E56A-4D12-80DB-9C063B4AA507}" type="slidenum">
              <a:rPr b="0" lang="ro-RO" sz="11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0E3B-BC79-4C6B-9840-E6977363253C}" type="slidenum">
              <a:rPr b="0" lang="ro-RO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1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6AEE-8514-4322-8FE3-8EA4B0BB6438}" type="slidenum">
              <a:rPr b="0" lang="ro-RO" sz="11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1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3FA7-6D9B-4D1F-9227-26E954852F17}" type="slidenum">
              <a:rPr b="0" lang="ro-RO" sz="11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1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22BE-8898-47CF-A714-B1B3C17D2ECE}" type="slidenum">
              <a:rPr b="0" lang="ro-RO" sz="11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u 1" descr=""/>
          <p:cNvPicPr/>
          <p:nvPr/>
        </p:nvPicPr>
        <p:blipFill>
          <a:blip r:embed="rId1"/>
          <a:stretch/>
        </p:blipFill>
        <p:spPr>
          <a:xfrm>
            <a:off x="2981160" y="530280"/>
            <a:ext cx="599760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Perpetua"/>
              </a:rPr>
              <a:t>Aplicatia Sanako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u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"/>
          <p:cNvPicPr/>
          <p:nvPr/>
        </p:nvPicPr>
        <p:blipFill>
          <a:blip r:embed="rId2"/>
          <a:stretch/>
        </p:blipFill>
        <p:spPr>
          <a:xfrm>
            <a:off x="1271520" y="1935000"/>
            <a:ext cx="595800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u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1357200" y="1285920"/>
            <a:ext cx="60580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u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"/>
          <p:cNvPicPr/>
          <p:nvPr/>
        </p:nvPicPr>
        <p:blipFill>
          <a:blip r:embed="rId2"/>
          <a:stretch/>
        </p:blipFill>
        <p:spPr>
          <a:xfrm>
            <a:off x="1571760" y="1643040"/>
            <a:ext cx="539100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u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1047600" y="1609560"/>
            <a:ext cx="6058080" cy="4846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u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485200" cy="1150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2"/>
          <a:stretch/>
        </p:blipFill>
        <p:spPr>
          <a:xfrm>
            <a:off x="1047600" y="1609560"/>
            <a:ext cx="6058080" cy="4846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3"/>
          <a:stretch/>
        </p:blipFill>
        <p:spPr>
          <a:xfrm>
            <a:off x="0" y="642960"/>
            <a:ext cx="53341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u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1857240" y="1828800"/>
            <a:ext cx="5572440" cy="4457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3"/>
          <a:stretch/>
        </p:blipFill>
        <p:spPr>
          <a:xfrm>
            <a:off x="500040" y="642960"/>
            <a:ext cx="502452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u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0" y="1571760"/>
            <a:ext cx="6058080" cy="4846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"/>
          <p:cNvPicPr/>
          <p:nvPr/>
        </p:nvPicPr>
        <p:blipFill>
          <a:blip r:embed="rId3"/>
          <a:stretch/>
        </p:blipFill>
        <p:spPr>
          <a:xfrm>
            <a:off x="3429000" y="1571760"/>
            <a:ext cx="604836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u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2"/>
          <a:stretch/>
        </p:blipFill>
        <p:spPr>
          <a:xfrm>
            <a:off x="1047600" y="1609560"/>
            <a:ext cx="60580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09:40:53Z</dcterms:created>
  <dc:creator>admin2</dc:creator>
  <dc:description/>
  <dc:language>en-US</dc:language>
  <cp:lastModifiedBy>Win7</cp:lastModifiedBy>
  <dcterms:modified xsi:type="dcterms:W3CDTF">2012-06-28T09:23:53Z</dcterms:modified>
  <cp:revision>7</cp:revision>
  <dc:subject/>
  <dc:title>Diapozitivul 1</dc:title>
</cp:coreProperties>
</file>